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B1C-194D-4439-928E-181332FE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416-55D7-411F-99C7-0032F98F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EB9-2BBC-4C14-B97E-1C8F1572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A7C-AC3C-4E00-94F0-1ED34F7C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6CA-E114-47A5-98B8-612F48F7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BA1-05FE-4895-909D-E96440BB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878-4AC7-41D8-B8BF-2053BEAF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4FF-28D9-4322-9DD7-DAAA8C1E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C89-A406-4597-8A1B-03214B98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C01-1B0A-4878-BAE7-5DB29C9A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DD5-4199-4F0D-B558-C568215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CAA-B099-497A-8437-F33043AE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5489-8264-473F-884C-B64D7136863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inet.or.jp/~eshibuya/index.html" TargetMode="External"/><Relationship Id="rId2" Type="http://schemas.openxmlformats.org/officeDocument/2006/relationships/hyperlink" Target="http://genji.nce.buttobi.net/xml/" TargetMode="External"/><Relationship Id="rId3" Type="http://schemas.openxmlformats.org/officeDocument/2006/relationships/hyperlink" Target="http://www.genji-monogatari.net/xml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inet.or.jp/~eshibuya/text09.html" TargetMode="External"/><Relationship Id="rId3" Type="http://schemas.openxmlformats.org/officeDocument/2006/relationships/hyperlink" Target="http://www.sainet.or.jp/~eshibuya/version09.html" TargetMode="External"/><Relationship Id="rId4" Type="http://schemas.openxmlformats.org/officeDocument/2006/relationships/hyperlink" Target="http://www.genji-monogatari.net/src/yosano/yosano09.html" TargetMode="External"/><Relationship Id="rId5" Type="http://schemas.openxmlformats.org/officeDocument/2006/relationships/hyperlink" Target="http://www.sainet.or.jp/~eshibuya/note09.html" TargetMode="External"/><Relationship Id="rId6" Type="http://schemas.openxmlformats.org/officeDocument/2006/relationships/hyperlink" Target="http://www.sainet.or.jp/~eshibuya/roman09.html" TargetMode="External"/><Relationship Id="rId7" Type="http://schemas.openxmlformats.org/officeDocument/2006/relationships/hyperlink" Target="http://www.genji-monogatari.net/html/eiri/eiri043.gif" TargetMode="External"/><Relationship Id="rId8" Type="http://schemas.openxmlformats.org/officeDocument/2006/relationships/hyperlink" Target="http://www.genji-monogatari.net/html/Genji/combined09.1.html" TargetMode="External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genji-monogatari.net/html/eiri/eiri043.gif" TargetMode="External"/><Relationship Id="rId5" Type="http://schemas.openxmlformats.org/officeDocument/2006/relationships/hyperlink" Target="http://www.genji-monogatari.net/xml/sumiko/readAloud/aloud_09.wma" TargetMode="External"/><Relationship Id="rId6" Type="http://schemas.openxmlformats.org/officeDocument/2006/relationships/hyperlink" Target="http://www.genji-monogatari.net/xml/mywkfmnr/ruby/ruby09.1.xml" TargetMode="External"/><Relationship Id="rId7" Type="http://schemas.openxmlformats.org/officeDocument/2006/relationships/hyperlink" Target="http://www.genji-monogatari.net/xml/eshibuya/text/text09.1.xml" TargetMode="External"/><Relationship Id="rId8" Type="http://schemas.openxmlformats.org/officeDocument/2006/relationships/hyperlink" Target="http://www.genji-monogatari.net/xml/eshibuya/version/version09.1.xml" TargetMode="External"/><Relationship Id="rId9" Type="http://schemas.openxmlformats.org/officeDocument/2006/relationships/hyperlink" Target="http://www.genji-monogatari.net/xml/eshibuya/notes/notes09.1.xml" TargetMode="External"/><Relationship Id="rId10" Type="http://schemas.openxmlformats.org/officeDocument/2006/relationships/hyperlink" Target="http://www.genji-monogatari.net/xml/mywkfmnr/hiragana/hiragana09.1.xml" TargetMode="External"/><Relationship Id="rId11" Type="http://schemas.openxmlformats.org/officeDocument/2006/relationships/hyperlink" Target="http://www.genji-monogatari.net/xml/mywkfmnr/yosano/yosano09.1.xml" TargetMode="External"/><Relationship Id="rId12" Type="http://schemas.openxmlformats.org/officeDocument/2006/relationships/hyperlink" Target="http://www.genji-monogatari.net/xml/eshibuya/eiri/eiri09.1.xml" TargetMode="External"/><Relationship Id="rId13" Type="http://schemas.openxmlformats.org/officeDocument/2006/relationships/hyperlink" Target="http://www.genji-monogatari.net/xml/mywkfmnr/phrase/phrase09.1.xml" TargetMode="External"/><Relationship Id="rId14" Type="http://schemas.openxmlformats.org/officeDocument/2006/relationships/hyperlink" Target="http://www.genji-monogatari.net/xml/mywkfmnr/phrase2Aloud/aloud01.1.xml" TargetMode="External"/><Relationship Id="rId15" Type="http://schemas.openxmlformats.org/officeDocument/2006/relationships/hyperlink" Target="http://www.sainet.or.jp/~eshibuya/text09.html" TargetMode="External"/><Relationship Id="rId16" Type="http://schemas.openxmlformats.org/officeDocument/2006/relationships/hyperlink" Target="http://www.sainet.or.jp/~eshibuya/version09.html" TargetMode="External"/><Relationship Id="rId17" Type="http://schemas.openxmlformats.org/officeDocument/2006/relationships/hyperlink" Target="http://www.genji-monogatari.net/src/yosano/yosano09.html" TargetMode="External"/><Relationship Id="rId18" Type="http://schemas.openxmlformats.org/officeDocument/2006/relationships/hyperlink" Target="http://www.sainet.or.jp/~eshibuya/note09.html" TargetMode="External"/><Relationship Id="rId19" Type="http://schemas.openxmlformats.org/officeDocument/2006/relationships/hyperlink" Target="http://www.sainet.or.jp/~eshibuya/roman09.html" TargetMode="External"/><Relationship Id="rId20" Type="http://schemas.openxmlformats.org/officeDocument/2006/relationships/hyperlink" Target="http://www.genji-monogatari.net/xml/mywkfmnr/sample/yoko4ie-09-1.html" TargetMode="External"/><Relationship Id="rId21" Type="http://schemas.openxmlformats.org/officeDocument/2006/relationships/hyperlink" Target="http://www.genji-monogatari.net/xml/mywkfmnr/sample/tate4ie-09-1.html" TargetMode="External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229360"/>
            <a:ext cx="8424720" cy="143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421000"/>
            <a:ext cx="8424720" cy="100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HGP行書体"/>
                <a:ea typeface="HGP行書体"/>
              </a:rPr>
              <a:t>源氏物語の世界 再編集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オリジナル 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ＭＳ Ｐゴシック"/>
                <a:hlinkClick r:id="rId1"/>
              </a:rPr>
              <a:t>http://www.sainet.or.jp/~eshibuya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高千穂大学  渋谷栄一教授 作成、無償公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V1 - 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ＨＴＭＬ版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、ＣＳＶ版、ＣＨＭ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2003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月～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2004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月 趣味で作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V2 - XML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版 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ＭＳ Ｐゴシック"/>
                <a:hlinkClick r:id="rId2"/>
              </a:rPr>
              <a:t>http://genji.nce.buttobi.net/xm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2004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月～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月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IPA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未踏プロジェクトで作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クライアント側で動的再編集する基本方式を確立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背景：高負荷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CG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禁止　　（現在は動作しない。∵サーバ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PHP4⇒PHP5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V3 - XML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版 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ＭＳ Ｐゴシック"/>
                <a:hlinkClick r:id="rId3"/>
              </a:rPr>
              <a:t>http://www.genji-monogatari.net/xm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月～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2006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月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IPA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未踏プロジェクトで作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機能強化、構造整備、実用性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189000"/>
            <a:ext cx="2665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2007/12/21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宮脇文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330120"/>
            <a:ext cx="8642160" cy="6243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227640" y="404640"/>
            <a:ext cx="14400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（Ｖ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099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72360" y="5589720"/>
            <a:ext cx="2447640" cy="34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Ｖ１の既存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6093000"/>
            <a:ext cx="2447640" cy="34668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目標とする新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5661000"/>
            <a:ext cx="27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凡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022480"/>
            <a:ext cx="6227640" cy="4835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189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Ｖ１　－　ＨＴＭＬ版 の 仕掛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48000" y="692280"/>
            <a:ext cx="4896000" cy="4105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48000" y="817560"/>
            <a:ext cx="4699080" cy="1096920"/>
          </a:xfrm>
          <a:prstGeom prst="roundRect">
            <a:avLst>
              <a:gd name="adj" fmla="val 39648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3880" y="1917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24280"/>
            <a:ext cx="1905120" cy="608040"/>
          </a:xfrm>
          <a:prstGeom prst="wedgeRectCallout">
            <a:avLst>
              <a:gd name="adj1" fmla="val -114999"/>
              <a:gd name="adj2" fmla="val 58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一括生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一括アップロ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941400"/>
            <a:ext cx="647640" cy="39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ＭＳ Ｐゴシック"/>
                <a:hlinkClick r:id="rId2"/>
              </a:rPr>
              <a:t>本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26040" y="941400"/>
            <a:ext cx="124488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ＭＳ Ｐゴシック"/>
                <a:hlinkClick r:id="rId3"/>
              </a:rPr>
              <a:t>渋谷栄一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9040" y="1428840"/>
            <a:ext cx="1446480" cy="39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ＭＳ Ｐゴシック"/>
                <a:hlinkClick r:id="rId4"/>
              </a:rPr>
              <a:t>与謝野晶子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64280" y="941400"/>
            <a:ext cx="641160" cy="39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ＭＳ Ｐゴシック"/>
                <a:hlinkClick r:id="rId5"/>
              </a:rPr>
              <a:t>注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24640" y="941400"/>
            <a:ext cx="1271520" cy="39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ＭＳ Ｐゴシック"/>
                <a:hlinkClick r:id="rId6"/>
              </a:rPr>
              <a:t>ローマ字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92720" y="155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オリジナル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HTML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ファイ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88240" y="2270160"/>
            <a:ext cx="658800" cy="438120"/>
            <a:chOff x="6888240" y="2270160"/>
            <a:chExt cx="658800" cy="438120"/>
          </a:xfrm>
        </p:grpSpPr>
        <p:sp>
          <p:nvSpPr>
            <p:cNvPr id="65" name=""/>
            <p:cNvSpPr/>
            <p:nvPr/>
          </p:nvSpPr>
          <p:spPr>
            <a:xfrm>
              <a:off x="6912000" y="2276640"/>
              <a:ext cx="635040" cy="365040"/>
            </a:xfrm>
            <a:prstGeom prst="wedgeRectCallout">
              <a:avLst>
                <a:gd name="adj1" fmla="val -151750"/>
                <a:gd name="adj2" fmla="val 273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固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88240" y="2270160"/>
              <a:ext cx="647640" cy="438120"/>
            </a:xfrm>
            <a:prstGeom prst="wedgeRectCallout">
              <a:avLst>
                <a:gd name="adj1" fmla="val -94606"/>
                <a:gd name="adj2" fmla="val -1289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固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896000" y="2349360"/>
            <a:ext cx="1312560" cy="609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静的再編集</a:t>
            </a:r>
            <a:br>
              <a:rPr sz="1800"/>
            </a:b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プログラ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912000" y="3716280"/>
            <a:ext cx="2030040" cy="939240"/>
            <a:chOff x="6912000" y="3716280"/>
            <a:chExt cx="2030040" cy="939240"/>
          </a:xfrm>
        </p:grpSpPr>
        <p:grpSp>
          <p:nvGrpSpPr>
            <p:cNvPr id="69" name=""/>
            <p:cNvGrpSpPr/>
            <p:nvPr/>
          </p:nvGrpSpPr>
          <p:grpSpPr>
            <a:xfrm>
              <a:off x="6912000" y="3716280"/>
              <a:ext cx="2030040" cy="939240"/>
              <a:chOff x="6912000" y="3716280"/>
              <a:chExt cx="2030040" cy="939240"/>
            </a:xfrm>
          </p:grpSpPr>
          <p:sp>
            <p:nvSpPr>
              <p:cNvPr id="70" name=""/>
              <p:cNvSpPr/>
              <p:nvPr/>
            </p:nvSpPr>
            <p:spPr>
              <a:xfrm>
                <a:off x="6912000" y="3804480"/>
                <a:ext cx="2030040" cy="851040"/>
              </a:xfrm>
              <a:prstGeom prst="roundRect">
                <a:avLst>
                  <a:gd name="adj" fmla="val 39648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912000" y="3716280"/>
                <a:ext cx="190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ＭＳ Ｐゴシック"/>
                  </a:rPr>
                  <a:t>イメー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7547040" y="4201920"/>
              <a:ext cx="681120" cy="33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7"/>
                </a:rPr>
                <a:t>挿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464000" y="3479760"/>
            <a:ext cx="2030400" cy="1173240"/>
          </a:xfrm>
          <a:prstGeom prst="roundRect">
            <a:avLst>
              <a:gd name="adj" fmla="val 39648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640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再編集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77080" y="4221000"/>
            <a:ext cx="1511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932360" y="3860640"/>
            <a:ext cx="1115280" cy="645480"/>
            <a:chOff x="4932360" y="3860640"/>
            <a:chExt cx="1115280" cy="645480"/>
          </a:xfrm>
        </p:grpSpPr>
        <p:sp>
          <p:nvSpPr>
            <p:cNvPr id="77" name=""/>
            <p:cNvSpPr/>
            <p:nvPr/>
          </p:nvSpPr>
          <p:spPr>
            <a:xfrm>
              <a:off x="5178240" y="3860640"/>
              <a:ext cx="86940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3200" bIns="90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58000" y="3951720"/>
              <a:ext cx="86940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3200" bIns="90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32360" y="4048200"/>
              <a:ext cx="868680" cy="45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32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8"/>
                </a:rPr>
                <a:t>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284720" y="242100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3716280"/>
            <a:ext cx="3522600" cy="2735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700360" y="4005360"/>
            <a:ext cx="3514680" cy="2806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819760" y="3789360"/>
            <a:ext cx="3324240" cy="2806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55640" y="18900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Ｖ３　－　ＸＭＬ版 の 仕掛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3429000"/>
            <a:ext cx="123840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動的再編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プログラム</a:t>
            </a: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（縦書き印刷用文書作成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429000"/>
            <a:ext cx="64908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4248000" y="-1250640"/>
            <a:ext cx="647640" cy="9144000"/>
          </a:xfrm>
          <a:custGeom>
            <a:avLst/>
            <a:gdLst>
              <a:gd name="textAreaLeft" fmla="*/ 414000 w 647640"/>
              <a:gd name="textAreaRight" fmla="*/ 648000 w 647640"/>
              <a:gd name="textAreaTop" fmla="*/ 238320 h 9144000"/>
              <a:gd name="textAreaBottom" fmla="*/ 8905680 h 91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18"/>
                </a:lnTo>
                <a:cubicBezTo>
                  <a:pt x="10800" y="10518"/>
                  <a:pt x="5400" y="11418"/>
                  <a:pt x="0" y="11418"/>
                </a:cubicBezTo>
                <a:cubicBezTo>
                  <a:pt x="5400" y="11418"/>
                  <a:pt x="10800" y="12318"/>
                  <a:pt x="10800" y="13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3429000"/>
            <a:ext cx="1238040" cy="79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動的再編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プログラム</a:t>
            </a: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（縦書き表示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429000"/>
            <a:ext cx="1238040" cy="79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動的再編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プログラム</a:t>
            </a: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（横書き表示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308720" y="115920"/>
            <a:ext cx="1680480" cy="812160"/>
            <a:chOff x="7308720" y="115920"/>
            <a:chExt cx="1680480" cy="812160"/>
          </a:xfrm>
        </p:grpSpPr>
        <p:grpSp>
          <p:nvGrpSpPr>
            <p:cNvPr id="91" name=""/>
            <p:cNvGrpSpPr/>
            <p:nvPr/>
          </p:nvGrpSpPr>
          <p:grpSpPr>
            <a:xfrm>
              <a:off x="7308720" y="115920"/>
              <a:ext cx="1680480" cy="812160"/>
              <a:chOff x="7308720" y="115920"/>
              <a:chExt cx="1680480" cy="812160"/>
            </a:xfrm>
          </p:grpSpPr>
          <p:sp>
            <p:nvSpPr>
              <p:cNvPr id="92" name=""/>
              <p:cNvSpPr/>
              <p:nvPr/>
            </p:nvSpPr>
            <p:spPr>
              <a:xfrm>
                <a:off x="7308720" y="192240"/>
                <a:ext cx="1680480" cy="735840"/>
              </a:xfrm>
              <a:prstGeom prst="roundRect">
                <a:avLst>
                  <a:gd name="adj" fmla="val 39648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08720" y="115920"/>
                <a:ext cx="15764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500" spc="-1" strike="noStrike">
                    <a:solidFill>
                      <a:srgbClr val="000000"/>
                    </a:solidFill>
                    <a:latin typeface="ＭＳ Ｐゴシック"/>
                  </a:rPr>
                  <a:t>イメージ・音声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519320" y="535680"/>
              <a:ext cx="5634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4"/>
                </a:rPr>
                <a:t>挿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50400" y="535680"/>
              <a:ext cx="56304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5"/>
                </a:rPr>
                <a:t>朗読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276720" y="981000"/>
            <a:ext cx="5681160" cy="1584360"/>
            <a:chOff x="3276720" y="981000"/>
            <a:chExt cx="5681160" cy="1584360"/>
          </a:xfrm>
        </p:grpSpPr>
        <p:sp>
          <p:nvSpPr>
            <p:cNvPr id="97" name=""/>
            <p:cNvSpPr/>
            <p:nvPr/>
          </p:nvSpPr>
          <p:spPr>
            <a:xfrm>
              <a:off x="3276720" y="981000"/>
              <a:ext cx="5681160" cy="1580400"/>
            </a:xfrm>
            <a:prstGeom prst="roundRect">
              <a:avLst>
                <a:gd name="adj" fmla="val 39648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89560" y="1085400"/>
              <a:ext cx="5157000" cy="946440"/>
            </a:xfrm>
            <a:prstGeom prst="roundRect">
              <a:avLst>
                <a:gd name="adj" fmla="val 3964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00480" y="1823400"/>
              <a:ext cx="563400" cy="419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6"/>
                </a:rPr>
                <a:t>ル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0520" y="1189800"/>
              <a:ext cx="531360" cy="315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7"/>
                </a:rPr>
                <a:t>本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65200" y="1192320"/>
              <a:ext cx="1029960" cy="315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8"/>
                </a:rPr>
                <a:t>渋谷栄一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31960" y="1189800"/>
              <a:ext cx="531360" cy="315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9"/>
                </a:rPr>
                <a:t>注釈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4960" y="1612080"/>
              <a:ext cx="1053000" cy="31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0"/>
                </a:rPr>
                <a:t>ひらがな版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20280" y="1612080"/>
              <a:ext cx="1197360" cy="31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1"/>
                </a:rPr>
                <a:t>与謝野晶子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20440" y="1189800"/>
              <a:ext cx="1029960" cy="315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2"/>
                </a:rPr>
                <a:t>挿絵リンク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77840" y="1189800"/>
              <a:ext cx="1053000" cy="31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朗読リンク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42360" y="1612080"/>
              <a:ext cx="1053000" cy="31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3"/>
                </a:rPr>
                <a:t>文節情報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60440" y="2139120"/>
              <a:ext cx="1999440" cy="31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4"/>
                </a:rPr>
                <a:t>本文と朗読の対応関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91720" y="2243160"/>
              <a:ext cx="1577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XML</a:t>
              </a: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デー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65000" y="2139120"/>
              <a:ext cx="526320" cy="31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・・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77080" y="2708280"/>
            <a:ext cx="842760" cy="314280"/>
          </a:xfrm>
          <a:prstGeom prst="wedgeRectCallout">
            <a:avLst>
              <a:gd name="adj1" fmla="val 74106"/>
              <a:gd name="adj2" fmla="val 168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固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7080" y="2708280"/>
            <a:ext cx="744480" cy="314280"/>
          </a:xfrm>
          <a:prstGeom prst="wedgeRectCallout">
            <a:avLst>
              <a:gd name="adj1" fmla="val 1810"/>
              <a:gd name="adj2" fmla="val -134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565360"/>
            <a:ext cx="2127240" cy="523800"/>
          </a:xfrm>
          <a:prstGeom prst="wedgeRectCallout">
            <a:avLst>
              <a:gd name="adj1" fmla="val 88356"/>
              <a:gd name="adj2" fmla="val 3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動的再編集（ＸＳＬＴ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クライアント側で実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2708280"/>
            <a:ext cx="360072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データと</a:t>
            </a:r>
            <a:r>
              <a:rPr b="1" lang="ja-JP" sz="1500" spc="-1" strike="noStrike">
                <a:solidFill>
                  <a:srgbClr val="000000"/>
                </a:solidFill>
                <a:latin typeface="Arial"/>
              </a:rPr>
              <a:t>再編集プログラムは追加可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877080" y="836280"/>
            <a:ext cx="790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885080" y="836280"/>
            <a:ext cx="574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557360"/>
            <a:ext cx="2901960" cy="503280"/>
          </a:xfrm>
          <a:custGeom>
            <a:avLst/>
            <a:gdLst/>
            <a:ahLst/>
            <a:rect l="l" t="t" r="r" b="b"/>
            <a:pathLst>
              <a:path w="1828" h="226">
                <a:moveTo>
                  <a:pt x="0" y="0"/>
                </a:moveTo>
                <a:cubicBezTo>
                  <a:pt x="152" y="37"/>
                  <a:pt x="610" y="209"/>
                  <a:pt x="915" y="226"/>
                </a:cubicBezTo>
                <a:cubicBezTo>
                  <a:pt x="1446" y="226"/>
                  <a:pt x="1638" y="126"/>
                  <a:pt x="1828" y="1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1773360"/>
            <a:ext cx="1079640" cy="503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90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静的再編集</a:t>
            </a:r>
            <a:br>
              <a:rPr sz="1500"/>
            </a:b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プログラ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836640"/>
            <a:ext cx="3276360" cy="824760"/>
            <a:chOff x="0" y="836640"/>
            <a:chExt cx="3276360" cy="824760"/>
          </a:xfrm>
        </p:grpSpPr>
        <p:sp>
          <p:nvSpPr>
            <p:cNvPr id="120" name=""/>
            <p:cNvSpPr/>
            <p:nvPr/>
          </p:nvSpPr>
          <p:spPr>
            <a:xfrm>
              <a:off x="0" y="836640"/>
              <a:ext cx="3276360" cy="796680"/>
            </a:xfrm>
            <a:prstGeom prst="roundRect">
              <a:avLst>
                <a:gd name="adj" fmla="val 39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680" y="926280"/>
              <a:ext cx="447120" cy="29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3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5"/>
                </a:rPr>
                <a:t>本文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39840" y="926280"/>
              <a:ext cx="866880" cy="289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3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6"/>
                </a:rPr>
                <a:t>渋谷栄一訳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36520" y="1279800"/>
              <a:ext cx="1007640" cy="29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3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7"/>
                </a:rPr>
                <a:t>与謝野晶子訳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8840" y="926280"/>
              <a:ext cx="446760" cy="29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3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8"/>
                </a:rPr>
                <a:t>注釈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14000" y="926280"/>
              <a:ext cx="886680" cy="29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300" spc="-1" strike="noStrike" u="sng">
                  <a:solidFill>
                    <a:srgbClr val="009999"/>
                  </a:solidFill>
                  <a:uFillTx/>
                  <a:latin typeface="ＭＳ Ｐゴシック"/>
                  <a:hlinkClick r:id="rId19"/>
                </a:rPr>
                <a:t>ローマ字版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369440"/>
              <a:ext cx="2038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ＭＳ Ｐゴシック"/>
                </a:rPr>
                <a:t>オリジナル</a:t>
              </a:r>
              <a:r>
                <a:rPr b="1" lang="ja-JP" sz="1300" spc="-1" strike="noStrike">
                  <a:solidFill>
                    <a:srgbClr val="000000"/>
                  </a:solidFill>
                  <a:latin typeface="ＭＳ Ｐゴシック"/>
                </a:rPr>
                <a:t>HTML</a:t>
              </a:r>
              <a:r>
                <a:rPr b="1" lang="ja-JP" sz="1300" spc="-1" strike="noStrike">
                  <a:solidFill>
                    <a:srgbClr val="000000"/>
                  </a:solidFill>
                  <a:latin typeface="ＭＳ Ｐゴシック"/>
                </a:rPr>
                <a:t>ファイル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24000" y="4653000"/>
            <a:ext cx="863280" cy="311400"/>
          </a:xfrm>
          <a:prstGeom prst="rect">
            <a:avLst/>
          </a:prstGeom>
          <a:solidFill>
            <a:srgbClr val="c0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ＨＴＭ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4941720"/>
            <a:ext cx="863640" cy="585720"/>
          </a:xfrm>
          <a:prstGeom prst="rect">
            <a:avLst/>
          </a:prstGeom>
          <a:solidFill>
            <a:srgbClr val="c0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ＭＳ Ｐゴシック"/>
                <a:hlinkClick r:id="rId21"/>
              </a:rPr>
              <a:t>ＨＴＭＬ</a:t>
            </a:r>
            <a:br>
              <a:rPr sz="1800"/>
            </a:b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IE6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以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5589720"/>
            <a:ext cx="1944720" cy="549000"/>
          </a:xfrm>
          <a:prstGeom prst="rect">
            <a:avLst/>
          </a:prstGeom>
          <a:solidFill>
            <a:srgbClr val="c0e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WordML</a:t>
            </a:r>
            <a:br>
              <a:rPr sz="1800"/>
            </a:b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MS-Word 2003</a:t>
            </a: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以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4221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03320" y="2890800"/>
            <a:ext cx="8928000" cy="2071800"/>
            <a:chOff x="103320" y="2890800"/>
            <a:chExt cx="8928000" cy="2071800"/>
          </a:xfrm>
        </p:grpSpPr>
        <p:sp>
          <p:nvSpPr>
            <p:cNvPr id="134" name=""/>
            <p:cNvSpPr/>
            <p:nvPr/>
          </p:nvSpPr>
          <p:spPr>
            <a:xfrm>
              <a:off x="380880" y="2890800"/>
              <a:ext cx="8650440" cy="17287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7160" y="3033720"/>
              <a:ext cx="8680320" cy="176364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3320" y="3174840"/>
              <a:ext cx="8678880" cy="178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-795240" y="-309600"/>
            <a:ext cx="11234520" cy="5202360"/>
          </a:xfrm>
          <a:custGeom>
            <a:avLst/>
            <a:gdLst/>
            <a:ahLst/>
            <a:rect l="l" t="t" r="r" b="b"/>
            <a:pathLst>
              <a:path w="7077" h="3277">
                <a:moveTo>
                  <a:pt x="707" y="1045"/>
                </a:moveTo>
                <a:cubicBezTo>
                  <a:pt x="995" y="1188"/>
                  <a:pt x="1446" y="1395"/>
                  <a:pt x="1884" y="1448"/>
                </a:cubicBezTo>
                <a:cubicBezTo>
                  <a:pt x="2322" y="1501"/>
                  <a:pt x="3091" y="1429"/>
                  <a:pt x="3333" y="1512"/>
                </a:cubicBezTo>
                <a:cubicBezTo>
                  <a:pt x="3575" y="1595"/>
                  <a:pt x="3533" y="1811"/>
                  <a:pt x="3336" y="1947"/>
                </a:cubicBezTo>
                <a:cubicBezTo>
                  <a:pt x="3139" y="2083"/>
                  <a:pt x="2507" y="1985"/>
                  <a:pt x="2311" y="2156"/>
                </a:cubicBezTo>
                <a:cubicBezTo>
                  <a:pt x="2115" y="2327"/>
                  <a:pt x="2067" y="2979"/>
                  <a:pt x="2339" y="3096"/>
                </a:cubicBezTo>
                <a:cubicBezTo>
                  <a:pt x="2611" y="3213"/>
                  <a:pt x="3583" y="3277"/>
                  <a:pt x="3754" y="2851"/>
                </a:cubicBezTo>
                <a:cubicBezTo>
                  <a:pt x="3925" y="2425"/>
                  <a:pt x="3562" y="1960"/>
                  <a:pt x="3895" y="1601"/>
                </a:cubicBezTo>
                <a:cubicBezTo>
                  <a:pt x="4228" y="1242"/>
                  <a:pt x="5579" y="1391"/>
                  <a:pt x="6055" y="1278"/>
                </a:cubicBezTo>
                <a:cubicBezTo>
                  <a:pt x="6526" y="1096"/>
                  <a:pt x="7077" y="252"/>
                  <a:pt x="6618" y="126"/>
                </a:cubicBezTo>
                <a:cubicBezTo>
                  <a:pt x="6159" y="0"/>
                  <a:pt x="4090" y="48"/>
                  <a:pt x="3031" y="58"/>
                </a:cubicBezTo>
                <a:cubicBezTo>
                  <a:pt x="1972" y="68"/>
                  <a:pt x="648" y="24"/>
                  <a:pt x="261" y="188"/>
                </a:cubicBezTo>
                <a:cubicBezTo>
                  <a:pt x="0" y="428"/>
                  <a:pt x="419" y="902"/>
                  <a:pt x="707" y="1045"/>
                </a:cubicBezTo>
                <a:close/>
              </a:path>
            </a:pathLst>
          </a:cu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4560" y="784080"/>
            <a:ext cx="153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92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Ｖ３　－　再編集プログラムの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3284640"/>
            <a:ext cx="1943280" cy="136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cc"/>
              </a:gs>
            </a:gsLst>
            <a:lin ang="5400000"/>
          </a:gra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で生成された</a:t>
            </a:r>
            <a:br>
              <a:rPr sz="1800"/>
            </a:b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動的再編集処理</a:t>
            </a: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ページ </a:t>
            </a: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(HTML/HTA</a:t>
            </a:r>
            <a:br>
              <a:rPr sz="1500"/>
            </a:b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 &amp; JavaScrip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4437000"/>
            <a:ext cx="2165400" cy="3412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</a:rPr>
              <a:t>ＸＭＬスタイルシ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62960" y="3409920"/>
            <a:ext cx="1062000" cy="7477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</a:rPr>
              <a:t>再編集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04040" y="3843360"/>
            <a:ext cx="35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4600" y="3760920"/>
            <a:ext cx="2376360" cy="657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再編集書式設定ページ</a:t>
            </a:r>
            <a:br>
              <a:rPr sz="1800"/>
            </a:b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HTML &amp; JavaScript</a:t>
            </a: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0600" y="620640"/>
            <a:ext cx="2952720" cy="341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再編集仕様設定ページ（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51640" y="4797000"/>
            <a:ext cx="37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889280" y="958320"/>
            <a:ext cx="342720" cy="5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59200" y="1015920"/>
            <a:ext cx="1322280" cy="14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81520" y="1014480"/>
            <a:ext cx="863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49600" y="620640"/>
            <a:ext cx="3646800" cy="37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</a:rPr>
              <a:t>動的再編集処理ページ生成（ＰＨ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89080" y="2116080"/>
            <a:ext cx="2360520" cy="598680"/>
          </a:xfrm>
          <a:prstGeom prst="flowChartOnlineStorag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</a:rPr>
              <a:t>クッキー</a:t>
            </a:r>
            <a:br>
              <a:rPr sz="1800"/>
            </a:br>
            <a:r>
              <a:rPr b="1" lang="ja-JP" sz="1800" spc="-1" strike="noStrike">
                <a:solidFill>
                  <a:srgbClr val="000000"/>
                </a:solidFill>
                <a:latin typeface="Century"/>
              </a:rPr>
              <a:t>（書式情報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76360" y="981000"/>
            <a:ext cx="0" cy="278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0200" y="1011240"/>
            <a:ext cx="1800" cy="227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127240" y="2712960"/>
            <a:ext cx="433440" cy="10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89080" y="1068480"/>
            <a:ext cx="2241720" cy="89856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MySQL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</a:rPr>
              <a:t>データベース</a:t>
            </a:r>
            <a:br>
              <a:rPr sz="1800"/>
            </a:br>
            <a:r>
              <a:rPr b="1" lang="ja-JP" sz="1400" spc="-1" strike="noStrike">
                <a:solidFill>
                  <a:srgbClr val="000000"/>
                </a:solidFill>
                <a:latin typeface="Century"/>
              </a:rPr>
              <a:t>（会員情報、フォルダ情報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351320" y="1023480"/>
            <a:ext cx="1306440" cy="245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27080" y="966960"/>
            <a:ext cx="0" cy="27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6560" y="966960"/>
            <a:ext cx="452520" cy="12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51640" y="1989000"/>
            <a:ext cx="1368360" cy="720720"/>
          </a:xfrm>
          <a:prstGeom prst="wedgeRoundRectCallout">
            <a:avLst>
              <a:gd name="adj1" fmla="val -40254"/>
              <a:gd name="adj2" fmla="val 764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</a:rPr>
              <a:t>再編集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</a:rPr>
              <a:t>毎に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620640"/>
            <a:ext cx="720720" cy="287280"/>
          </a:xfrm>
          <a:prstGeom prst="roundRect">
            <a:avLst>
              <a:gd name="adj" fmla="val 3591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844640"/>
            <a:ext cx="1176480" cy="314280"/>
          </a:xfrm>
          <a:prstGeom prst="roundRect">
            <a:avLst>
              <a:gd name="adj" fmla="val 3591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書式設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2349360"/>
            <a:ext cx="576360" cy="287640"/>
          </a:xfrm>
          <a:prstGeom prst="roundRect">
            <a:avLst>
              <a:gd name="adj" fmla="val 3591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Ｏ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79280" y="5084640"/>
            <a:ext cx="5760720" cy="1569240"/>
            <a:chOff x="179280" y="5084640"/>
            <a:chExt cx="5760720" cy="1569240"/>
          </a:xfrm>
        </p:grpSpPr>
        <p:sp>
          <p:nvSpPr>
            <p:cNvPr id="164" name=""/>
            <p:cNvSpPr/>
            <p:nvPr/>
          </p:nvSpPr>
          <p:spPr>
            <a:xfrm>
              <a:off x="179280" y="5084640"/>
              <a:ext cx="5760720" cy="1561320"/>
            </a:xfrm>
            <a:prstGeom prst="roundRect">
              <a:avLst>
                <a:gd name="adj" fmla="val 39648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6440" y="5187960"/>
              <a:ext cx="5229360" cy="934920"/>
            </a:xfrm>
            <a:prstGeom prst="roundRect">
              <a:avLst>
                <a:gd name="adj" fmla="val 3964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66400" y="5916600"/>
              <a:ext cx="571320" cy="41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ル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0280" y="5290920"/>
              <a:ext cx="538560" cy="31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本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92960" y="5293440"/>
              <a:ext cx="1044360" cy="311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渋谷栄一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50720" y="5290920"/>
              <a:ext cx="538560" cy="31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注釈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8480" y="5708160"/>
              <a:ext cx="1067760" cy="311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ひらがな版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36160" y="5708160"/>
              <a:ext cx="1213920" cy="311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与謝野晶子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64400" y="5290920"/>
              <a:ext cx="1044360" cy="31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挿絵リンク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8000" y="5290920"/>
              <a:ext cx="1067760" cy="311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朗読リンク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2080" y="5708160"/>
              <a:ext cx="1067760" cy="311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文節情報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86760" y="6228720"/>
              <a:ext cx="2027520" cy="311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00" bIns="90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本文と朗読の対応関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8600" y="6331680"/>
              <a:ext cx="1599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XML</a:t>
              </a: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デー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20480" y="6228720"/>
              <a:ext cx="533880" cy="311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00000"/>
                  </a:solidFill>
                  <a:latin typeface="ＭＳ Ｐゴシック"/>
                </a:rPr>
                <a:t>・・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79280" y="4653000"/>
            <a:ext cx="23767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動的再編集プログラ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51640" y="5157720"/>
            <a:ext cx="1513080" cy="1224000"/>
          </a:xfrm>
          <a:prstGeom prst="wedgeRoundRectCallout">
            <a:avLst>
              <a:gd name="adj1" fmla="val -75185"/>
              <a:gd name="adj2" fmla="val -14092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1640" y="3357720"/>
            <a:ext cx="2319480" cy="934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動的再編集処理ページ</a:t>
            </a:r>
            <a:br>
              <a:rPr sz="1800"/>
            </a:b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のテンプレート</a:t>
            </a:r>
            <a:br>
              <a:rPr sz="1800"/>
            </a:br>
            <a:r>
              <a:rPr b="1" lang="ja-JP" sz="1500" spc="-1" strike="noStrike">
                <a:solidFill>
                  <a:srgbClr val="000000"/>
                </a:solidFill>
                <a:latin typeface="ＭＳ Ｐゴシック"/>
              </a:rPr>
              <a:t>(HTML &amp; JavaScrip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7640" y="5157720"/>
            <a:ext cx="27370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WordML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のように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HDD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に保存する必要がある場合等で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HTA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を使用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ただし、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HTA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ではクッキー使用不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1268280"/>
            <a:ext cx="2448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サーバ側で実行する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981000"/>
            <a:ext cx="8785440" cy="68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ML xmlns:msxsl="urn:schemas-microsoft-com:xslt"  xmlns:my="http://www.genji-monogatari.net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META http-equiv="Content-Type" content="text/html; charset=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EUC-jp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EAD&gt; 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hta:application ID="myAp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TITLE&gt;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源氏物語の世界 再編集版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XML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形式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書き印刷用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ord 2003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文書作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HEAD&gt;&lt;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CRIPT&gt; …(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略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r xmlInput = new Array(); …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略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Input[xmlInput.length] = 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xmlLoad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'http://www.genji-monogatari.net/xml/eshibuya/text/text09.1.xml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Input[xmlInput.length] = </a:t>
            </a: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Load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'http://www.genji-monogatari.net/xml/eshibuya/notes/notes09.1.xml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Input[xmlInput.length] = </a:t>
            </a: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Load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'http://www.genji-monogatari.net/xml/eshibuya/sources/sources09.1.xml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Input[xmlInput.length] = </a:t>
            </a: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Load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'http://www.genji-monogatari.net/xml/eshibuya/revices/revices09.1.xml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Input[xmlInput.length] = </a:t>
            </a: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Load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'http://www.genji-monogatari.net/xml/eshibuya/version/version09.1.xml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Input[xmlInput.length] = </a:t>
            </a:r>
            <a:r>
              <a:rPr b="1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Load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'http://www.genji-monogatari.net/xml/mywkfmnr/yosano/yosano09.1.xml'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略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r xslCnv2 = 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xmlLoad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"http://www.genji-monogatari.net/xml/mywkfmnr/tate4Word/tate4Wor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xsl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xml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SCRIPT type="text/xml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id="xmlInput2"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XML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のヒアドキュメント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クッキーに保存されていた書式情報の取り込み等に使用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IE6(MSXML3)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では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&lt;XML&gt;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タグ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(XML island)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も使えるが、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MSXML4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で非サポートになったので、使用し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処理内容は以下のとお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    ●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使用する３つの文字コード</a:t>
            </a:r>
            <a:r>
              <a:rPr b="1" lang="ja-JP" sz="1600" spc="-1" strike="noStrike">
                <a:solidFill>
                  <a:srgbClr val="333399"/>
                </a:solidFill>
                <a:latin typeface="ＭＳ Ｐゴシック"/>
              </a:rPr>
              <a:t>(</a:t>
            </a:r>
            <a:r>
              <a:rPr b="1" lang="ja-JP" sz="1600" spc="-1" strike="noStrike">
                <a:solidFill>
                  <a:srgbClr val="333399"/>
                </a:solidFill>
                <a:latin typeface="ＭＳ Ｐゴシック"/>
              </a:rPr>
              <a:t>シフト</a:t>
            </a:r>
            <a:r>
              <a:rPr b="1" lang="ja-JP" sz="1600" spc="-1" strike="noStrike">
                <a:solidFill>
                  <a:srgbClr val="333399"/>
                </a:solidFill>
                <a:latin typeface="ＭＳ Ｐゴシック"/>
              </a:rPr>
              <a:t>JIS</a:t>
            </a:r>
            <a:r>
              <a:rPr b="1" lang="ja-JP" sz="1600" spc="-1" strike="noStrike">
                <a:solidFill>
                  <a:srgbClr val="333399"/>
                </a:solidFill>
                <a:latin typeface="ＭＳ Ｐゴシック"/>
              </a:rPr>
              <a:t>、</a:t>
            </a:r>
            <a:r>
              <a:rPr b="1" lang="ja-JP" sz="1600" spc="-1" strike="noStrike">
                <a:solidFill>
                  <a:srgbClr val="333399"/>
                </a:solidFill>
                <a:latin typeface="ＭＳ Ｐゴシック"/>
              </a:rPr>
              <a:t>EUC</a:t>
            </a:r>
            <a:r>
              <a:rPr b="1" lang="ja-JP" sz="1600" spc="-1" strike="noStrike">
                <a:solidFill>
                  <a:srgbClr val="333399"/>
                </a:solidFill>
                <a:latin typeface="ＭＳ Ｐゴシック"/>
              </a:rPr>
              <a:t>、</a:t>
            </a:r>
            <a:r>
              <a:rPr b="1" lang="ja-JP" sz="1600" spc="-1" strike="noStrike">
                <a:solidFill>
                  <a:srgbClr val="333399"/>
                </a:solidFill>
                <a:latin typeface="ＭＳ Ｐゴシック"/>
              </a:rPr>
              <a:t>UTF-8)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の相違を乗り越えるための処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    ●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xmlLoad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した複数の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データと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のヒアドキュメントを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1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つの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XML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に連結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    ●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連結した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XSLT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で変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    ●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変換結果を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ファイルに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    ●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Word 2003</a:t>
            </a:r>
            <a:r>
              <a:rPr b="1" lang="ja-JP" sz="1800" spc="-1" strike="noStrike">
                <a:solidFill>
                  <a:srgbClr val="333399"/>
                </a:solidFill>
                <a:latin typeface="ＭＳ Ｐゴシック"/>
              </a:rPr>
              <a:t>起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BODY&gt;&lt;/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84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で生成された動的再編集処理ページ</a:t>
            </a:r>
            <a:br>
              <a:rPr sz="2800"/>
            </a:b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縦書き印刷用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Word 2003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文書を生成する場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5877000"/>
            <a:ext cx="4032360" cy="62100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参考リンク</a:t>
            </a:r>
            <a:br>
              <a:rPr sz="1800"/>
            </a:b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連結した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XML    XSLT    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変換結果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(X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836640"/>
            <a:ext cx="828036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を振り返っ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8036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603680"/>
            <a:ext cx="828036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msxsl:script&gt;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タグ（非標準）を多用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9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基本： シンタックス⇒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XSLT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、セマンティック⇒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98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XSLT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どう書けば良いか、すぐにはわからなかった所も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JavaScript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化した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ただ、安易に走ったところがあり、そこは反省点。（慣れるにつれて減っ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98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JavaScript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方が書き易い所は多い。文字列操作、正規表現、グローバル変数、変数値の更新、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XML-DOM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、関数、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～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、エラー処理、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9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&lt;msxsl:script&gt;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タグ相当機能を 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XSLT 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で標準化して欲し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XSLT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のデバッグに苦労した。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無償ツールばかりだったから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9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Java Script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なら、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MS-Office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スクリプトエディタ付属デバッガでデバッグできるが、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&lt;msxsl:script&gt;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タグ内のデバッグはサポートされ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98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Visual Studio 2005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XSLT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デバッグ機能も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xpress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～ 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tandard  Edition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には無い。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Professional Edition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も、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&lt;msxsl:script&gt;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タグには対応していない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グ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98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PHP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ASP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JSP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&lt;%=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式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%&gt;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ような文字列埋め込み機能が欲し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9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namespace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扱いが難しい。本当は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&lt;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源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: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帖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&gt;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などとしたかったのだが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98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XML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連結を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XSLT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書いたら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エラー処理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明朝"/>
              </a:rPr>
              <a:t>で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きずボツ。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JavaScript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書き直し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198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"&amp;lt;"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はそのまま書けるのに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"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&amp;nbsp;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"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をそのまま書けないのはなぜ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4:14:45Z</dcterms:created>
  <dc:creator>宮脇</dc:creator>
  <dc:description/>
  <dc:language>en-US</dc:language>
  <cp:lastModifiedBy>宮脇</cp:lastModifiedBy>
  <dcterms:modified xsi:type="dcterms:W3CDTF">2007-12-20T14:41:09Z</dcterms:modified>
  <cp:revision>29</cp:revision>
  <dc:subject/>
  <dc:title>スライド 1</dc:title>
</cp:coreProperties>
</file>